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re is not always a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uck St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, Extend, Translate,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ment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video of One Duck Stuck - start at the pause in the reading when beginning to represent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ackground information regarding lesson goal and thinking on the fly - to change the lesson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- reiterate importance of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linear sequence - can be recur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p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is tool and why - helps students understand concept of ‘te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1 - most appropriate to represent as a simple bar graph - in whole group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4 - more appropriate to begin to create independently as seen in grade 2 student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E172-BAB3-4C9C-ACA0-740636907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DBBD-1291-468A-B9B8-304091261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4449-C865-49CC-AA07-B6CA3B7E0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DECB-403D-4BE3-AFE1-76A8F5C08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2603-B426-412D-91D8-AE0ED775F7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315E-C35B-4200-8B6D-F8FA629E50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8844-5178-4EAF-AD96-8A79A730CB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C0F0-4D58-4B21-8DF9-F718075294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DF8A-0A9C-4431-ADF3-C82F82C3DA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5B5F-7D36-4BA1-9B65-8185EDFB6C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65E1-89B5-42E1-AEB5-73814937FC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CFA2-BC82-40E3-A6A3-C2B7806DD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DFFA-B051-4225-83EC-84C012EEFF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951E-A7B9-4FD8-B446-612F98036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8735-6D5A-448B-BD97-59742D775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D64A-20E5-45AF-AEC8-357B1400B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E215-0485-4084-ABB8-86C017EED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2196-091D-4383-A566-C82436CFF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A6E9-A6D9-475E-87CE-CA2372B47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E43D-201B-403A-A634-6301CCCCC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F92D-5790-4F66-9F7D-6F1A5D71F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0E7C-066A-4946-86EB-56BF92EEE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4C34-5332-44FA-831B-AAEC0F8E9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9239-687D-4027-B1E5-F5AC50478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B41-3D49-410F-92AA-208864DD49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4314-F74F-4FDA-9E1E-7902D829E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FD6-776E-45F1-AF33-E6AFDDE793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4800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8000"/>
                </a:solidFill>
                <a:latin typeface="Arial"/>
              </a:rPr>
              <a:t>Building Learning Goals &amp; Consolidat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800600" y="2514600"/>
            <a:ext cx="43434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Gen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0596-6938-48F0-ACC2-CB5FCB116C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91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7E1-5471-47AC-9758-85F97A08C7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199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6624-AF72-4321-B1F4-5EB886D02C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07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821-2C4C-4620-8A25-166FB57D8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210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213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215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5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building mats, position cards and common language to identify and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tudent work to identify multiplica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lenary foci (multiplicative thinking, multiple representations and general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025D-D435-461E-B30C-206624C034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 teac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  (“in the pocket questions”,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6D96-13AB-480B-91D6-88359505B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Learning Goals &amp; Teacher Move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1651-2349-41FE-84A0-F84A1CBAEB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6019920" cy="151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CLIPART:Animals (Part 2):Cartoons (Do - Du):Duck Stuck in Muck.wmf"/>
          <p:cNvPicPr/>
          <p:nvPr/>
        </p:nvPicPr>
        <p:blipFill>
          <a:blip r:embed="rId3"/>
          <a:stretch/>
        </p:blipFill>
        <p:spPr>
          <a:xfrm>
            <a:off x="533520" y="2819520"/>
            <a:ext cx="320040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A1B-2F9B-4C79-8F45-3E09C63FC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06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AD7A-6DDC-46B4-BF3F-DCFEFDBDA0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19" name="Group 28"/>
            <p:cNvGrpSpPr/>
            <p:nvPr/>
          </p:nvGrpSpPr>
          <p:grpSpPr>
            <a:xfrm>
              <a:off x="1066680" y="1523880"/>
              <a:ext cx="1688760" cy="1645200"/>
              <a:chOff x="1066680" y="1523880"/>
              <a:chExt cx="1688760" cy="164520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20"/>
              <p:cNvSpPr/>
              <p:nvPr/>
            </p:nvSpPr>
            <p:spPr>
              <a:xfrm>
                <a:off x="157320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24"/>
            <p:cNvGrpSpPr/>
            <p:nvPr/>
          </p:nvGrpSpPr>
          <p:grpSpPr>
            <a:xfrm>
              <a:off x="3346560" y="1523880"/>
              <a:ext cx="1688760" cy="1645200"/>
              <a:chOff x="3346560" y="1523880"/>
              <a:chExt cx="1688760" cy="164520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21"/>
              <p:cNvSpPr/>
              <p:nvPr/>
            </p:nvSpPr>
            <p:spPr>
              <a:xfrm>
                <a:off x="393696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3"/>
            <p:cNvGrpSpPr/>
            <p:nvPr/>
          </p:nvGrpSpPr>
          <p:grpSpPr>
            <a:xfrm>
              <a:off x="5542200" y="1523880"/>
              <a:ext cx="1688760" cy="1645200"/>
              <a:chOff x="5542200" y="1523880"/>
              <a:chExt cx="1688760" cy="1645200"/>
            </a:xfrm>
          </p:grpSpPr>
          <p:sp>
            <p:nvSpPr>
              <p:cNvPr id="132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9"/>
              <p:cNvSpPr/>
              <p:nvPr/>
            </p:nvSpPr>
            <p:spPr>
              <a:xfrm>
                <a:off x="638640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22"/>
              <p:cNvSpPr/>
              <p:nvPr/>
            </p:nvSpPr>
            <p:spPr>
              <a:xfrm>
                <a:off x="630252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44"/>
            <p:cNvGrpSpPr/>
            <p:nvPr/>
          </p:nvGrpSpPr>
          <p:grpSpPr>
            <a:xfrm>
              <a:off x="1066680" y="3926520"/>
              <a:ext cx="5797800" cy="1644480"/>
              <a:chOff x="1066680" y="3926520"/>
              <a:chExt cx="5797800" cy="1644480"/>
            </a:xfrm>
          </p:grpSpPr>
          <p:sp>
            <p:nvSpPr>
              <p:cNvPr id="141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27"/>
              <p:cNvSpPr/>
              <p:nvPr/>
            </p:nvSpPr>
            <p:spPr>
              <a:xfrm>
                <a:off x="1572840" y="517212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Box 27"/>
              <p:cNvSpPr/>
              <p:nvPr/>
            </p:nvSpPr>
            <p:spPr>
              <a:xfrm>
                <a:off x="380988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Box 27"/>
              <p:cNvSpPr/>
              <p:nvPr/>
            </p:nvSpPr>
            <p:spPr>
              <a:xfrm>
                <a:off x="601992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3"/>
            <p:cNvGrpSpPr/>
            <p:nvPr/>
          </p:nvGrpSpPr>
          <p:grpSpPr>
            <a:xfrm>
              <a:off x="3430800" y="3926520"/>
              <a:ext cx="1688760" cy="1156680"/>
              <a:chOff x="3430800" y="3926520"/>
              <a:chExt cx="1688760" cy="1156680"/>
            </a:xfrm>
          </p:grpSpPr>
          <p:sp>
            <p:nvSpPr>
              <p:cNvPr id="147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6048720" y="437148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155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Creat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26D-1656-4204-B16A-CB99C20CC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wo patterns that look different but have the same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pattern rule on a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5"/>
          <p:cNvSpPr/>
          <p:nvPr/>
        </p:nvSpPr>
        <p:spPr>
          <a:xfrm>
            <a:off x="304920" y="3733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87000"/>
          </a:bodyPr>
          <a:p>
            <a:pPr marL="3326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Content Placeholder 6" descr=""/>
          <p:cNvPicPr/>
          <p:nvPr/>
        </p:nvPicPr>
        <p:blipFill>
          <a:blip r:embed="rId1"/>
          <a:stretch/>
        </p:blipFill>
        <p:spPr>
          <a:xfrm>
            <a:off x="4632480" y="3705120"/>
            <a:ext cx="42987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3A52-01C5-4D37-ADB7-C3794E21F9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CFAD-3393-4230-9FD4-2D411AD59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Cards &amp; Building Ma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might we represent your patterns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D62-AD67-4670-8401-2A56C9BF0E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1978200"/>
            <a:ext cx="6782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5:35:58Z</dcterms:created>
  <dc:creator>CSC</dc:creator>
  <dc:description/>
  <cp:keywords/>
  <dc:language>en-US</dc:language>
  <cp:lastModifiedBy>Computer Services</cp:lastModifiedBy>
  <dcterms:modified xsi:type="dcterms:W3CDTF">2011-08-18T03:52:31Z</dcterms:modified>
  <cp:revision>52</cp:revision>
  <dc:subject/>
  <dc:title>&lt;Title&gt;</dc:title>
</cp:coreProperties>
</file>